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8D1-9DE2-41DA-98C3-C0474D14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62D-8B7F-4754-A3F4-26A38FEF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A68-29A4-4207-A4CD-D8B5D673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4FE-AB6B-45B4-BBAA-D8800F62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A60D-095F-49B6-899D-1BE1C93C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00C7-E99F-47E7-B71E-8F102B99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5C16-789E-423C-B5A2-678CBBDC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8704-0921-4405-BB8A-262E4B75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EBAB-EEC3-49EB-A971-ABB8E8D1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DB89-1E80-40B7-BDF6-9A6AEAD3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4F2D-7FD5-414F-BE91-759D405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FCD-CE92-4F1C-93C9-944195F4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362D-84BE-4013-95FE-F78F5E26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9556-B990-41F4-B0B1-82BE80AC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C32D-E58C-4BA9-A955-6F8B78DE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46D9-8E98-4913-83BB-3A287241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1E6B-1AB7-4DD2-9F27-96757A1C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711-5523-4ABD-A4B1-4C73CA99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34E-FD3F-47A7-A211-C3E31992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7F7-8DE7-45AD-BD0A-BD7FA225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7F2-5149-4B67-928F-95673DBF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5A5-579D-47B9-99D9-E59843A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B8A-917A-482B-9120-B148CF1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0ED-85AF-4C2D-899F-0DCBA70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C235-1C62-4816-A5EB-D07F7A2C788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7E90-0F66-4787-ADA6-D509B8E7494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llenge #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l in the correct number for each letter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ing the information provid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Numb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# of Prot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# of Neu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# of Elec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4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9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492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4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9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31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PritchaJ</cp:lastModifiedBy>
  <dcterms:modified xsi:type="dcterms:W3CDTF">2011-06-01T13:47:01Z</dcterms:modified>
  <cp:revision>10</cp:revision>
  <dc:subject/>
  <dc:title>Slide 1</dc:title>
</cp:coreProperties>
</file>